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813A-191A-4B69-930A-0F46724D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5EF3-DE33-4CC4-B6AC-2415DB88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484-14F0-4EB2-BA14-D7C7AECF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F89-2E3B-458A-A7FE-960BA328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785-64C3-4665-8E2B-7FA7C9E1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85A-2E49-415E-AC0C-3B352652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8E7-7585-435C-BA82-89112643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7977-F747-4688-9F95-254D24B6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A1F-40B1-4C45-B1BA-B8B769A0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E5A-67B1-4C55-A5CC-1F3955E3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C9D-ACDD-45A2-AE9D-6C0E0378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4AB-159B-4342-95B1-D88E0D3D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FA19-C1BA-42E9-A6A0-9CB15E1F7E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450800"/>
            <a:ext cx="8496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81080" y="1916280"/>
            <a:ext cx="8691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3041640" y="981000"/>
            <a:ext cx="580392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1251000" y="2708280"/>
            <a:ext cx="7620120" cy="98100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179280" y="3933720"/>
            <a:ext cx="8691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عود إلى : الإيمان والعمل الصال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4"/>
          <a:stretch/>
        </p:blipFill>
        <p:spPr>
          <a:xfrm>
            <a:off x="250920" y="692280"/>
            <a:ext cx="86421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42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782640"/>
            <a:ext cx="8642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50920" y="888840"/>
            <a:ext cx="8767800" cy="117180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611280" y="1197000"/>
            <a:ext cx="384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مل أهل الجنة وعمل أهل الن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2278080"/>
            <a:ext cx="86374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366840" y="530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ذهبن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60213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حقد ٍ وضغنٍ وعداو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من جنس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قبل عمل ال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60280" y="3357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جنة حرام على كل 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0680" y="465300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و من باب تعليق الشيء بـ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حا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2801880" y="2583000"/>
            <a:ext cx="614700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979640" y="3840120"/>
            <a:ext cx="6856560" cy="51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1476360" y="4683240"/>
            <a:ext cx="6138720" cy="414360"/>
          </a:xfrm>
          <a:prstGeom prst="rect">
            <a:avLst/>
          </a:prstGeom>
          <a:ln w="0">
            <a:noFill/>
          </a:ln>
        </p:spPr>
      </p:pic>
      <p:sp>
        <p:nvSpPr>
          <p:cNvPr id="63" name="عنوان 1"/>
          <p:cNvSpPr/>
          <p:nvPr/>
        </p:nvSpPr>
        <p:spPr>
          <a:xfrm>
            <a:off x="200160" y="558972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آ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أنه من المحال دخول الجمل في سم الخياط فكذلك المكذبون بآيات الله محال دخولهم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620568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ليف يكون على 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ط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نعم الله على أهل الجن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ينزع ما في قلوبهم من الحقد فلا يحسد بعضهم بعضاً على تفاضل منازلهم في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2338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ة لا تُدخل إلا باجتماع أمرين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8"/>
          <p:cNvSpPr/>
          <p:nvPr/>
        </p:nvSpPr>
        <p:spPr>
          <a:xfrm flipH="1">
            <a:off x="4571640" y="269892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9"/>
          <p:cNvSpPr/>
          <p:nvPr/>
        </p:nvSpPr>
        <p:spPr>
          <a:xfrm flipH="1">
            <a:off x="4566960" y="2955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20"/>
          <p:cNvCxnSpPr/>
          <p:nvPr/>
        </p:nvCxnSpPr>
        <p:spPr>
          <a:xfrm flipH="1">
            <a:off x="8456040" y="38512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3635280"/>
            <a:ext cx="820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 الصال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>
            <a:off x="8820000" y="2949480"/>
            <a:ext cx="0" cy="9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0"/>
          <p:cNvCxnSpPr/>
          <p:nvPr/>
        </p:nvCxnSpPr>
        <p:spPr>
          <a:xfrm flipH="1">
            <a:off x="8456040" y="3274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308124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ل  الله ورحمته وتوفيق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ه لا يدخل أحد الجنة إلا برحمة الله تعا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</a:t>
            </a:r>
            <a:r>
              <a:rPr b="1" lang="en-US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711520" y="4683240"/>
            <a:ext cx="6108480" cy="11221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638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باب 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557920" cy="576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62080" y="3708360"/>
            <a:ext cx="5068800" cy="69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2003400" y="4869000"/>
            <a:ext cx="3327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1270080" y="5877000"/>
            <a:ext cx="4064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